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A8C-2573-4949-9672-A004C776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96B-CA13-4C39-8221-E234C3B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6A6-48A0-4D9A-A94C-233238DF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971-8896-417F-AA7E-BF449929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5EC5-5386-4418-BD04-D4BDE3AE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2713-0F23-4DD2-B826-E6BF192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00E6-FC4B-4ACC-B5E5-8E6FD73A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EE5C-3C0C-44F4-B6F0-6C1B4550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69A2-D3F6-4F61-8826-6D45A268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DA5A-19D1-4414-A0A0-E1ADA01D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4DF6-3ACD-4947-BEE0-3DE1D762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16C-608E-4BFF-A48D-B4EBD0BF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8248-5A80-4F3D-ABB4-90459CB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DF53-EEB4-4E83-85DF-5A828A4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3CA-0F63-4145-B82D-75D1FD2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80AF-7D6F-4393-80F0-39CD8A59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9A7A-DEE9-4EFF-9C0F-16A4E8A3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27C-8CFE-4D08-9882-64AD5FD3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421-2558-4BB6-B0E6-18AEEAFE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480-5C6A-4BB2-8C5F-186C4FD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5C3-32E4-4444-8740-DE084007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2DC-29C6-403F-BDFA-062A8CF4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D8D-3264-46A5-A0B0-442C727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B92-7E5D-47B8-BF46-9471A93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BCE-51A9-4480-B87A-E514BA48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A480-F3D2-467F-A66F-ECCF323C6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15145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–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втор: Староверов А.Л.- учитель обществ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4880" y="1137960"/>
            <a:ext cx="82137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80px-Dmitry_Medvedev_official_large_photo_-5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учителя</cp:lastModifiedBy>
  <dcterms:modified xsi:type="dcterms:W3CDTF">2013-11-16T09:01:20Z</dcterms:modified>
  <cp:revision>48</cp:revision>
  <dc:subject/>
  <dc:title>Слайд 1</dc:title>
</cp:coreProperties>
</file>